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1800" y="8737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3FC-BB9B-4BDF-B4BE-B7735C1A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535-41E8-4D49-B22B-79BE7FC724B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B9F9-CC28-41B5-B55C-6B98B7A4398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2AA-70E5-442E-A042-CBF74F81336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C898-3FFF-42F0-A222-CBEC5A31ACD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828-0CFC-4ACA-81DD-2D871789D85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42C-1647-4DCB-8DF1-9DF0F915195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863-DE86-4D5B-AA11-BEF0D5387DE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FC1-D005-411F-ADD7-63DB2C7BEF5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DF39-914F-44D5-810E-4547CC6D761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14D1-CF36-4783-BD92-EB6CC748ADB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53F-D85D-4E9C-95F1-A2E8C9C4EBC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71E2-6296-4ABE-BFDF-CFE7A4953580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B3CD-A8F4-412D-8941-8D791133D00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A99-77E4-483E-8661-167A5849F848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0A43-C038-4611-8CE2-F0B8D71E210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27D-4840-4E34-B437-0EE876332E4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472-37F0-495B-B0FE-12C1E5288B8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A36-DCF4-43B5-B63D-BFD1D4240C9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44A-E139-40D8-B015-BC98B081484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D4AA-6455-461D-9B79-1FEB8C5FBED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6D0-0BF9-4B29-84A1-995EB6AAE92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ERSONS WITH T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gnitive deficits: Misperception and poor memory, reasoning, and problem-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nd Psychological: Easily distracted; organization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out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cial dis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initiative, inability to adapt quickly, preservation, low frustration level, passive-aggressive, anxious/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CHARACTERISTICS OF PERSONS WITH T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gmatic problems most persis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versations and na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hension 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difficulties with figurative language and multiple and abstract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50DF-5859-44A8-A595-0282313B130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610C-0B5F-4C3E-BC3F-DB23D539DCC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9E7-D1D0-4EE2-874E-1005A0EB867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809-18E0-4407-A7D8-A6E9D921A35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C63-A0DA-4EBB-8FF3-EB665DABE37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ACB-B231-412B-9A10-4680D2829A3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16D8-6AAF-439C-BE69-94D7742D4F7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B2EE-5B78-46E2-9349-344AEAFF6030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06D7-3375-4AE2-9986-6816BEA480A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6420-ED36-4293-86DB-6896F4CCD9A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C83-EF9B-4C1A-AB49-D3181B017D3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ymbolic and early symbolic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, semantic categories, word combinations,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ugmentative/alternative communication (AAC)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form and continued vocabulary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functioning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lescents and adults may continue to need services especially as life offers new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FE20-A3C4-45DD-A2B8-D04B7C106F8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534-AF28-4196-955A-B883F14079F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BD8C-4491-4460-A5EA-DA58B366DE20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1CC-34AD-42B8-ADF0-537DC4C3A84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A9F5-63DA-40FC-8853-EC8CDBC2945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74F-B2C9-4E74-874A-F0811FD8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ED2-2F04-4D0B-BB69-B66BB3F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329-C422-4A61-B790-854DC9B6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728-4A01-4E9B-B600-9604434B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38C-B9D8-4AC8-BC46-5B48A5DB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5510-8227-4243-A484-536EFE0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172E-FFD4-42A9-8274-50529B5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750-5EDE-405A-BCF4-07E99CC9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3747-D967-4E6F-A4DB-6E8C8AE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9DAD-B2EF-4BED-B60D-B7C2FFED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91D4-8C16-4A1C-89EE-106A826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0BC-6B24-4D8F-9326-91B2730E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BD92-C4DC-452F-B925-6DB5F1F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997D-525C-4BCA-B9F4-B093D5D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FA8-B06F-49CD-9A39-751D9AD4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D8E-DE4E-425B-8F0E-D5B715AE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F7A9-1F05-4ECC-B905-3DDDCC34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5A3-6023-473B-A085-F29CB798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22C-11A9-4C23-9711-A2AA0C9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9B1-AC3A-4269-96AA-73E71A3B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385-5D44-4039-9FBD-BDE8001D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3AB-BAC2-4CC2-9EEC-3C444C5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CCC-6B13-4473-B40C-B9BF0DE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AB3-C8D0-43C0-B8DE-5A4D661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901-9EAA-4C74-B335-785D0678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B587-2EC6-4F8A-B9AC-1DE04D693BA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nl.edu/asdnetwork/images/umbrella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ildhood Language Impair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AD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continues but at slower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add new words and perfect grammatical forms, especially 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continue to develop if no neuropath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work environment, religion, hobbi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OCIATED DISORDERS AND RELATED CAU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tal retardation/intellectual di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language impair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ism spectrum disorder &amp; P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 inj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lect and ab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tal alcohol syndrome and drug-exposed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called Intellectual Disability (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limitations in intellectual func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limitations in adaptiv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s before age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based on IQ, ranges from mild to pro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based on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-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-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an be Biological or Socio-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&amp; chromosomal abn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xins &amp; chemical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ritional and metabolic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ational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 from pregnancy &amp;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-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of information is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nd retrieval of information is poor and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bilities can be below cognitive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rate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begin to deviate from typical developmen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horter, more immatur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eas of language can exhibit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ORMATIONAL PROCESSING DIFFERENCES IN M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lacement depends on 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, self-contained classroom, spe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living and competitiv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amily or in group home and supervised employment or day treat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acquisition and use of listening, speaking, reading, writing, reasoning, 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 of all individuals have LD, but severity varies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learning disa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arily difficulty learning and us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males more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ANGUAGE CHARACTERISTICS OF PERSONS WITH 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spects of language may be affected in both written and spoken language for reception and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with give-and-take of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synthesizing rules, especially syntax and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find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oral languag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interest in langu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n academic under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t communication breakdow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Deficit Hyperactivity Disorder (AD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neurological impairment in executive functioning that regulates behavior, causing impuls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sl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comprehending or producing written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any as 80% of those with LD have some form of rea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CHILDHOOD LANGUAGE IMPAIR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impair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development through the lifes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disorders and related c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high as 80% of children with LD have some form of reading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spects of language may be aff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use of fillers and circumlocution associated with word-finding difficulties, rapid speech, repetitions, and lack of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interest in language or books in pre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oral languag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special educ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uccessful with accommodations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hildren seem to outgrow their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successful professional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quire lifelong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-15% of middle-class U.S. children have delayed language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impairment in language func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erformance significantly lower than intellectual performance (like 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 some information processing and memor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evalence in families with a history of speech and languag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ales than females have S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iculty wit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regularities from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appropriate use of language forms cause pragmatic probl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cits in recognizing the impact of and expressing emo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ficulty with grammatical mar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speak slowly with frequent disru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ss efficient use of synt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ficulty using context for vocabulary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choolers with SLI are viewed negatively by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re later identified as having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dolescents with SLI view themselves negatively and are less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ism Spectrum Disorder (A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impairment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ed repetitive and stereotyped patterns of behavior, interests and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urbanc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al rates and sequence of motor, social-adaptive, and cognitive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to sensory sti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/language, cognition, nonverb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to appropriately relate to people, objects, and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rger's syndr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intelligence and typical language development with deficits in social and communicatio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kn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stimated 1 out of 54 boys and 1 in 252 girls are diagnosed with autism in the United St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ism prevalence figures are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ildren will be diagnosed with autism this year than with AIDS, diabetes &amp; cancer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ism is the fastest-growing serious developmental disability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tismspeaks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53308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unl.edu/asdnetwork/images/umbrella.pn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700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700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4" name="Picture 9" descr="umbrella"/>
          <p:cNvPicPr/>
          <p:nvPr/>
        </p:nvPicPr>
        <p:blipFill>
          <a:blip r:embed="rId2"/>
          <a:stretch/>
        </p:blipFill>
        <p:spPr>
          <a:xfrm>
            <a:off x="2286000" y="15238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medical test for aut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agnosis based on observed behavior and educational and psychological testing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use (autismspeaks.or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 the last five years, scientists have identified number of rare gene changes, or mutations, associated with autis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mall number of these are sufficient to cause autism by themselv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most cases, appears to be caused by a combination of autism risk genes and environmental factors influencing early brain developmen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idence is higher in those with a family his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les are affected more often than fem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ysical and Medical Issues that may Accompany Aut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izure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netic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leep Dys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nsory Integration Dysfunction 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identified by 2-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to bond as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ed speech and language, lack of gestures and verbal 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echol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to meet developmental milestones may indicate need for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babbling by 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gesturing by 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ngle words by 1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2-word spontaneous speech by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 of language or social skills at any age (Pragmatics &amp; Seman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interpret subtleties of conver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 placement depends on seve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live independently and hold a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ive similarly to those with ID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LANGUAGE IMPAIR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0720" y="1676520"/>
            <a:ext cx="6426360" cy="35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al and/or acquired disorders and/or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spoken and/or written language in comprehension and/or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s one or more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NOT a language dif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traumatic brain injury (TBI), stroke, congenital malformation, convulsive disorders, and encephalo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e brain damage due to extern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illion children and adolescents in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and extent of lesion, age at onset, and age of injury impacts recovery/post accident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cognitive, physical, behavioral, academic, and linguistic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ical maladjustment or acting-out behavior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ial disinhib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occ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095880" y="6248520"/>
            <a:ext cx="2667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t even after mild inju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deficits remain long after injury (pragmatic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comprehension and higher level language are often affected, but not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 retrieval, naming, and object description are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ration is often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after ac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unconsciousness and am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and personalit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may tak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taneous recovery in the first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recovery is unpredictable and ir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children often recover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cover language AND continue to lear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children have more to recover from memory but less new information to lear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subtle cognitive and social deficits per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EGLECT AND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lion children per year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s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alkative with fewer conversation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volunte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and less complex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recurring physical, psychological, and emo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ETAL ALCOHOL SYNDROME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ND DRUG-EXPOSED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HILDR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2042640"/>
            <a:ext cx="7010640" cy="39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 every 500-600 live bir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sure to alcohol during embryonic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birth weight, CNS dysfunction, growth deficiency, dysmorphic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 hyperactivity, motor problems, attention deficits, cognitive dis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IQ is in borderline ID/MR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-expos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birth weight and small head circum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ittery and irr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ETAL ALCOHOL SYNDROME AND DRUG-EXPOSED CHILDR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: Delayed oral language, echolalia, comprehens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exposure: Few vocalizations, inappropriate gesture, language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ind peers in reading and acade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die and have developmental difficu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giver-infant bonding may be dis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e like children with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LANGUAGE IMPAIR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lude: Nonspecific language impairment, Late talkers, Childhood schizophrenia, Selective mutism, Otitis media, Children who received cochlear impl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ren with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L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ve a general delay in language development, a nonverbal IQ of 86 or lower, and no obvious sensory or perceptual defici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health is an important factor amo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te talke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ldhood schizophreni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uncommon; about half have language delay (pragmatic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lective mutis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children do not speak in specific situations although they speak in oth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effect of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ronic otitis medi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an be delayed language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ren who receiv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chlear impla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ve relatively typical language develop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ESS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ral and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resence or absence of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and evaluation may occur in an interdisciplin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history and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f context 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hypotheses from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ESS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ariety of discourse types an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or later 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and qualitativ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samples of written language for those with literacy difficul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2182320"/>
            <a:ext cx="7010640" cy="35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effective use of language in everyday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’s abilities determine method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should be within meaningful context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-based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should not focus only on one defici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THROUGH THE LIFESP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be a commun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caregivers from strangers by 2 wee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3 months learn stimulus-respons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 4 months, rituals and game playing emer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to 9 month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ntionalit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ve behaviors eme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, gestures appear without vocalization but are gradually pa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represent and symbolize is strongly related to cognitive 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having one thing stand for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an arbitrary symbol to stand for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nets of good teach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sir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 client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with reinforcement or corr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occurs when there is generalization to the everyday languag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ymbolic and early symbolic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(AAC)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form and continued vocabular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functioning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skills, semantics, academ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 and adults may continue to ne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</a:t>
            </a:r>
            <a:br>
              <a:rPr sz="3400"/>
            </a:b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TODDL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4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ler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single words; combining a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use a single word for various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early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, expressive vocabulary of 150-300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word combinations follow predictable word-order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PRESCHO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chool Langu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ed conversational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 hypotheses about language rules &amp; use this to produce more complex languag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with ID/MR or LD may have difficul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egivers provide feedbac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 maintenance for 2-3 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to consider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imple sequential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PRESCHO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01064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yrs:  900 word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yrs:  1,500 wor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arning relational words and phr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change in syntax; more compl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culated i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n length of utterance (MLU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n morphem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age 3, most utterances contain a subject and a ver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ticles, adjectives, auxiliary verbs, prepositions, pronouns, and adverbs are add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ult-like negative, interrogative, and imperative sentences evolv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at, where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ich, who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and finally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y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the end of preschool, children form compound and complex sentenc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und morphemes are added: present progressiv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plural, possessive, past ten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SCHOOL AGE &amp; ADOLESC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-Age and Adolesce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s are the primary communicatio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of communication changes with reading and writin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linguistic skil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child to consider language in the abstract, make judgments about its correctness, and create verbal con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and pragmatic development bloss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ective and efficient  commun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SCHOOL AGE &amp; ADOLESC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conversation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s gain ess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graders- expressive vocabulary of approximately 2,600 words but may understand as many as 8,000 ro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tive vocabulary grows to 30,000 by 6th grade and to 60,000 words by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become more dictionary-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and 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ge 5, use most verb tenses, possessive pronouns, and conj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: Passive sentences, reflexive pronouns, compound/complex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8:16:45Z</dcterms:created>
  <dc:creator>owens</dc:creator>
  <dc:description/>
  <dc:language>en-US</dc:language>
  <cp:lastModifiedBy> Information Technology</cp:lastModifiedBy>
  <cp:lastPrinted>2002-04-06T18:20:12Z</cp:lastPrinted>
  <dcterms:modified xsi:type="dcterms:W3CDTF">2012-09-26T02:00:31Z</dcterms:modified>
  <cp:revision>215</cp:revision>
  <dc:subject/>
  <dc:title>Slide 1</dc:title>
</cp:coreProperties>
</file>